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4BD-1D83-4457-99A0-74C358B7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E88-A21F-4204-8437-F18CDBAC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F46-2A25-4972-BC10-B41242D0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FC1-5147-430D-A4D9-05AD5764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657-08FC-424C-A14E-0CA1EBDF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DB9-7BCD-477E-8D0E-7D310BC4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C3C-F492-4030-8952-969B01E3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271-8E8A-411A-BC73-34F3A427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5B1-E10E-45D9-984F-2D02671C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657-1BCA-48C7-BF82-E069C527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30E-6262-4EB5-99C2-96B275DC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C5E-F7D5-44BE-80A4-14F779B4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5988-720C-4E6C-96DE-FE67BC1AB0E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cision Models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838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- Scheduling Course Offering -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3733920"/>
            <a:ext cx="2209680" cy="2248920"/>
          </a:xfrm>
          <a:prstGeom prst="rect">
            <a:avLst/>
          </a:prstGeom>
          <a:noFill/>
          <a:ln w="38160">
            <a:solidFill>
              <a:srgbClr val="0000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8000" rIns="288000" tIns="324000" bIns="3240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Jisong Soh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e Won Par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in X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anfei Ko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imeng L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29070"/>
          <a:stretch/>
        </p:blipFill>
        <p:spPr>
          <a:xfrm>
            <a:off x="762120" y="1066680"/>
            <a:ext cx="33145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3-1. Excel spreadsheet setup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14560" y="2171880"/>
          <a:ext cx="5057640" cy="179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171880"/>
                    <a:ext cx="505764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29560" y="2171880"/>
          <a:ext cx="1171440" cy="179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9560" y="2171880"/>
                    <a:ext cx="117144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081840" y="2514600"/>
            <a:ext cx="69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834320" y="2514600"/>
            <a:ext cx="7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ge 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4560" y="4419720"/>
          <a:ext cx="5057640" cy="685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4560" y="4419720"/>
                    <a:ext cx="5057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3-2. Excel spreadsheet setup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ge 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2057400"/>
          <a:ext cx="4762440" cy="180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476244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629400" y="2028960"/>
          <a:ext cx="1123920" cy="180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028960"/>
                    <a:ext cx="11239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152360" y="4191120"/>
          <a:ext cx="4762800" cy="685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4191120"/>
                    <a:ext cx="4762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867280" y="2514600"/>
            <a:ext cx="7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7834320" y="2514600"/>
            <a:ext cx="7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4. Resul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43040" y="1600200"/>
          <a:ext cx="7638840" cy="19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600200"/>
                    <a:ext cx="76388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er 14 courses in 7 langu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tal 72 Students are expected to sign up for the cours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5. Next step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stic approach for uncertainti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used a deterministic approach for possible sign-up of students.  A probabilistic approach may be more appropriat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ing integrated model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ntegrated model that decides the course offering and the teach assignment simultaneously may produce a better resul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survey constru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vey questionnaire can be constructed to better fit the decision model to be us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21000000">
            <a:off x="1068480" y="1645920"/>
            <a:ext cx="3581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7c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7c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7c"/>
                </a:solidFill>
                <a:latin typeface="Tahoma"/>
              </a:rPr>
              <a:t>? ? ? ? ? ?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21000000">
            <a:off x="3884400" y="1647720"/>
            <a:ext cx="35845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ddddd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ddddd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ddddd"/>
                </a:solidFill>
                <a:latin typeface="Tahoma"/>
              </a:rPr>
              <a:t>? ? ? ? ? ?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21000000">
            <a:off x="4019040" y="3352320"/>
            <a:ext cx="35816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7c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7c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7c"/>
                </a:solidFill>
                <a:latin typeface="Tahoma"/>
              </a:rPr>
              <a:t>? ? ? ? ? ?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21000000">
            <a:off x="1506600" y="3152880"/>
            <a:ext cx="3584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ddddd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ddddd"/>
                </a:solidFill>
                <a:latin typeface="Tahoma"/>
              </a:rPr>
              <a:t>? ? ? ? ? ? 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dddddd"/>
                </a:solidFill>
                <a:latin typeface="Tahoma"/>
              </a:rPr>
              <a:t>? ? ? ? ? ?</a:t>
            </a:r>
            <a:endParaRPr b="0" lang="en-US" sz="6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1. Managerial problem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 plans to offer various language courses to students using outside vendor.  To be break-even, each class has to have at least 4 stud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 considers offering courses in 7 languages (Mandarin, Cantonese, Korean, Japanese, German, French, &amp; Spanish) in different levels (total 18 classe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nguage courses can be offered in three time slots: 12:00 ~1:20, 4:30~5:50, and 6:00~7:2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 contacted an outside language institution and received information on teachers and their availability for each time slo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1. Managerial problem – cont’d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 needs to decide the course offering schedule based on the survey result and the teachers’ availabiliti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 wants to maximize the number of course offered and the number of students enrolled for language cour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 wants to minimize course cancellation/addition after the sign-up period by designing a course offering schedule based on an assumption that everyone who showed interest in the survey will actually sign up for the courses when offer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 students showed interests in language courses in the survey – some of them showed interests in multiple courses and multiple time slo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1-(1) Data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2085840"/>
          <a:ext cx="6658200" cy="29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85840"/>
                    <a:ext cx="665820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696080" y="2084400"/>
          <a:ext cx="866880" cy="294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2084400"/>
                    <a:ext cx="86688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294680" y="2419200"/>
            <a:ext cx="4460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4762440" y="-1685880"/>
            <a:ext cx="228600" cy="7162920"/>
          </a:xfrm>
          <a:custGeom>
            <a:avLst/>
            <a:gdLst>
              <a:gd name="textAreaLeft" fmla="*/ 0 w 228600"/>
              <a:gd name="textAreaRight" fmla="*/ 82440 w 228600"/>
              <a:gd name="textAreaTop" fmla="*/ 186480 h 7162920"/>
              <a:gd name="textAreaBottom" fmla="*/ 6976440 h 716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15238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8 classes X 3 time slo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9480" y="5486400"/>
          <a:ext cx="6658200" cy="171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486400"/>
                    <a:ext cx="665820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858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96080" y="5467320"/>
          <a:ext cx="866880" cy="171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5467320"/>
                    <a:ext cx="86688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84582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1-(2) Data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23920" y="3048120"/>
          <a:ext cx="4133880" cy="30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3048120"/>
                    <a:ext cx="413388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8 teachers can be contracted to teach the cour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eacher can teach any level of the courses offered in the languag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. Formulation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ecision Variab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se offering: decide whether offer a course or no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inary variable / 0=not offered, 1=offered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assignment: one-to-one links between the classes and the available professor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e the number of courses offer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class should have at least 4 stud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s’ availabil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. Formulation – Cont’d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Decision Variab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Xi: binary variable representing the offering of clas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Yi: variable ranging from 1~18 representing the assigned teacher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aximize Z=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Tahoma"/>
              </a:rPr>
              <a:t>ΣX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Let Sji be Jth student’s interest for Ith course, the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Tahoma"/>
              </a:rPr>
              <a:t>ΣSji&gt;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Let Tji be Jth teacher’s availability for Ith course, then if Yi=J, Tji=1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. Formulation – Cont’d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odeling issue - Survey dat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5800" indent="-325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showed interest on multiple courses on multiple tim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0,0,0,1,1,0,…, 0,1,0, … 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"/>
              </a:rPr>
              <a:t>19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0,0,0,1,1,1,0,0,0,0,0….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5800" indent="-325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ll the courses were offered, students will take only one of the chosen courses or take the course at one time slo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5800" indent="-3258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certain rule in deciding the expected sign up for the courses and a penalty for multiple sign up by a student to a cour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25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3. Solution Methodology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2-Stage Evolutionary Sol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del have 36 decision variables (18 binary and 18 integer variables).  Putting all the variables in one model made it too heavy to run the evolutionary solver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has logical drawback and does not guarantee the optimal solution, but it’s doab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ge 1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optimal schedule based on the students’ interest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ge 2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teachers and cancel the course that a teacher is not availab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6:41:01Z</dcterms:created>
  <dc:creator>LGIBM PC Co.</dc:creator>
  <dc:description/>
  <dc:language>en-US</dc:language>
  <cp:lastModifiedBy>LGIBM PC Co.</cp:lastModifiedBy>
  <dcterms:modified xsi:type="dcterms:W3CDTF">2005-05-02T13:20:08Z</dcterms:modified>
  <cp:revision>32</cp:revision>
  <dc:subject/>
  <dc:title>Decision Models </dc:title>
</cp:coreProperties>
</file>